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12.png" ContentType="image/png"/>
  <Override PartName="/ppt/media/image3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7.jpeg" ContentType="image/jpeg"/>
  <Override PartName="/ppt/media/image4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6697-5B07-4049-A1F1-BF62A1490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ventur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8EA6-0BE0-4B3C-9D4C-651919A069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B1AC-050D-4AA1-878D-5ED70A4267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EF4-6F2B-499E-AAAC-6B3278FD94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598D-4F9C-44EA-AB40-33E20E9BC0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A706-2A82-4E6C-BC8F-412732F71F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83F3-7883-4BA9-AF0D-468D4C15DA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C78D-7F19-41D1-9D39-83983D3085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102F-A60D-4522-9743-33F8F642DB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697A-CF68-45EB-BA23-FFB4F69085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E9BC-52F8-4B9E-BB8C-FF25056514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95A8-9952-46AF-87C9-AD8CE7F8E2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682D-CA78-478F-83E1-10AA2EAA5F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AFA7-5C52-4695-9A4A-531956B7BB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D5DF-4493-496B-BD56-6ED4ECF36A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968E-B996-442C-885A-2BA7D9B047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5213-7964-42C7-A398-8653088CE5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A166-B8AD-4656-8C9D-F9AF4CE3A8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7EC6-B7AE-4D05-858F-D0C6A175BD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10CA-568A-4AFD-A924-6913865218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F5A-A571-4BC2-873B-7507C311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8E3-6CAA-4C82-849E-9D66E175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CBD-3A1A-4C8B-96A4-84C76A27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8AC-0564-4AC4-87A5-DC6C3D68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75F-484D-444D-ADFE-C8D9B7EA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25C-689A-47A3-B9BF-EA903CE6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CBC-9662-4B12-97BB-98D9F832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52C-ADF3-40B7-B4FE-4799EFF6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49C-5098-4AC2-9E73-80A90FDE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E40-0BCE-4043-8716-22D08628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B5E-50FE-4CAE-831C-20B8A0C3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58F-2F58-4FFC-9684-03C87F9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dventur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dventur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9F19-0414-424E-BE52-E7A30C247ED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ventur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sportal.biz/history/otkr_hron/z_kozak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hyperlink" Target="http://www.ksportal.biz/history/otkr_hron/z_kozak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54"/>
          <p:cNvSpPr/>
          <p:nvPr/>
        </p:nvSpPr>
        <p:spPr>
          <a:xfrm rot="21269400">
            <a:off x="2916000" y="2997000"/>
            <a:ext cx="3736800" cy="3605040"/>
          </a:xfrm>
          <a:prstGeom prst="verticalScroll">
            <a:avLst>
              <a:gd name="adj" fmla="val 1236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755640" y="33336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Полтавская битва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3635280" y="2565360"/>
            <a:ext cx="194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1709 год</a:t>
            </a:r>
            <a:endParaRPr b="0" lang="en-US" sz="2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  <p:pic>
        <p:nvPicPr>
          <p:cNvPr id="54" name="Picture 53" descr="Памятник коменданту города Полтава Келлину">
            <a:hlinkClick r:id="rId2"/>
          </p:cNvPr>
          <p:cNvPicPr/>
          <p:nvPr/>
        </p:nvPicPr>
        <p:blipFill>
          <a:blip r:embed="rId3"/>
          <a:srcRect l="3779" t="2511" r="1701" b="14566"/>
          <a:stretch/>
        </p:blipFill>
        <p:spPr>
          <a:xfrm rot="21272400">
            <a:off x="3924000" y="3499920"/>
            <a:ext cx="1801800" cy="237816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45b"/>
                </a:solidFill>
                <a:latin typeface="Tahoma"/>
              </a:rPr>
              <a:t>глазами историков и </a:t>
            </a:r>
            <a:br>
              <a:rPr sz="4000"/>
            </a:br>
            <a:r>
              <a:rPr b="0" lang="ru-RU" sz="4000" spc="-1" strike="noStrike">
                <a:solidFill>
                  <a:srgbClr val="ffc45b"/>
                </a:solidFill>
                <a:latin typeface="Tahoma"/>
              </a:rPr>
              <a:t>А.С. Пушк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6"/>
          <p:cNvSpPr txBox="1"/>
          <p:nvPr/>
        </p:nvSpPr>
        <p:spPr>
          <a:xfrm>
            <a:off x="539640" y="260280"/>
            <a:ext cx="79725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Обращение Петра к армии: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5508720" y="5589720"/>
            <a:ext cx="32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9 часов утра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27 июня 1709 года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  <p:sp>
        <p:nvSpPr>
          <p:cNvPr id="132" name="AutoShape 8"/>
          <p:cNvSpPr/>
          <p:nvPr/>
        </p:nvSpPr>
        <p:spPr>
          <a:xfrm rot="21269400">
            <a:off x="179280" y="1413000"/>
            <a:ext cx="5484960" cy="5041800"/>
          </a:xfrm>
          <a:prstGeom prst="verticalScroll">
            <a:avLst>
              <a:gd name="adj" fmla="val 14208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Воины! Вот пришел час, который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решит судьбу Отечества. Итак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не должны вы помышлять, что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сражаетесь за Петра, но за госу-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дарство, Петру врученное, за род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свой, за Отечество, Православную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нашу веру и церковь.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2"/>
          <a:stretch/>
        </p:blipFill>
        <p:spPr>
          <a:xfrm rot="20914800">
            <a:off x="3563640" y="5013360"/>
            <a:ext cx="112248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20162810"/>
          <p:cNvPicPr/>
          <p:nvPr/>
        </p:nvPicPr>
        <p:blipFill>
          <a:blip r:embed="rId3"/>
          <a:stretch/>
        </p:blipFill>
        <p:spPr>
          <a:xfrm rot="271800">
            <a:off x="5651280" y="1844280"/>
            <a:ext cx="2979720" cy="229068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</p:spTree>
  </p:cSld>
  <p:transition spd="slow"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9500"/>
                            </p:stCondLst>
                            <p:childTnLst>
                              <p:par>
                                <p:cTn id="3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map0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1" descr="event758_2"/>
          <p:cNvPicPr/>
          <p:nvPr/>
        </p:nvPicPr>
        <p:blipFill>
          <a:blip r:embed="rId1"/>
          <a:stretch/>
        </p:blipFill>
        <p:spPr>
          <a:xfrm>
            <a:off x="2843280" y="1341360"/>
            <a:ext cx="6049800" cy="453096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sp>
        <p:nvSpPr>
          <p:cNvPr id="137" name="WordArt 12"/>
          <p:cNvSpPr txBox="1"/>
          <p:nvPr/>
        </p:nvSpPr>
        <p:spPr>
          <a:xfrm>
            <a:off x="2340000" y="333360"/>
            <a:ext cx="44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Атака редутов: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  <p:sp>
        <p:nvSpPr>
          <p:cNvPr id="138" name="AutoShape 13"/>
          <p:cNvSpPr/>
          <p:nvPr/>
        </p:nvSpPr>
        <p:spPr>
          <a:xfrm rot="21133800">
            <a:off x="-95400" y="3366720"/>
            <a:ext cx="4054680" cy="3294000"/>
          </a:xfrm>
          <a:prstGeom prst="verticalScroll">
            <a:avLst>
              <a:gd name="adj" fmla="val 1420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1" i="1" lang="ru-RU" sz="2000" spc="-1" strike="noStrike">
                <a:solidFill>
                  <a:srgbClr val="ff9900"/>
                </a:solidFill>
                <a:latin typeface="Adventure"/>
              </a:rPr>
              <a:t>27 июня</a:t>
            </a: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 в 2 часа ночи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шведская армия скрытно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подошла к редутам, но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была обнаружена и подве-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рглась обстрелу и кавале-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dventure"/>
              </a:rPr>
              <a:t>рийской атаке.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</p:spTree>
  </p:cSld>
  <p:transition spd="slow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6" descr="poltav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poltavs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2" descr="jivopis_st590_bit_poltava"/>
          <p:cNvPicPr/>
          <p:nvPr/>
        </p:nvPicPr>
        <p:blipFill>
          <a:blip r:embed="rId1"/>
          <a:stretch/>
        </p:blipFill>
        <p:spPr>
          <a:xfrm rot="563400">
            <a:off x="4944600" y="3774960"/>
            <a:ext cx="3816360" cy="250344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pic>
        <p:nvPicPr>
          <p:cNvPr id="143" name="Picture 10" descr="photo27"/>
          <p:cNvPicPr/>
          <p:nvPr/>
        </p:nvPicPr>
        <p:blipFill>
          <a:blip r:embed="rId2"/>
          <a:stretch/>
        </p:blipFill>
        <p:spPr>
          <a:xfrm rot="389400">
            <a:off x="4932000" y="691920"/>
            <a:ext cx="3857760" cy="289692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sp>
        <p:nvSpPr>
          <p:cNvPr id="144" name="AutoShape 8"/>
          <p:cNvSpPr/>
          <p:nvPr/>
        </p:nvSpPr>
        <p:spPr>
          <a:xfrm rot="21269400">
            <a:off x="-180720" y="549000"/>
            <a:ext cx="5969160" cy="5935680"/>
          </a:xfrm>
          <a:prstGeom prst="verticalScroll">
            <a:avLst>
              <a:gd name="adj" fmla="val 1420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dventure"/>
              </a:rPr>
              <a:t>Россия – </a:t>
            </a:r>
            <a:r>
              <a:rPr b="1" i="1" lang="ru-RU" sz="2000" spc="-1" strike="noStrike">
                <a:solidFill>
                  <a:srgbClr val="ff9900"/>
                </a:solidFill>
                <a:latin typeface="Adventure"/>
              </a:rPr>
              <a:t>1345</a:t>
            </a:r>
            <a:r>
              <a:rPr b="0" lang="ru-RU" sz="20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dventure"/>
              </a:rPr>
              <a:t>человек</a:t>
            </a:r>
            <a:endParaRPr b="0" lang="en-US" sz="2000" spc="-1" strike="noStrike">
              <a:solidFill>
                <a:srgbClr val="ffffff"/>
              </a:solidFill>
              <a:latin typeface="Adventur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dventure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dventure"/>
              </a:rPr>
              <a:t>Шведы – </a:t>
            </a:r>
            <a:r>
              <a:rPr b="1" i="1" lang="ru-RU" sz="2000" spc="-1" strike="noStrike">
                <a:solidFill>
                  <a:srgbClr val="ff9900"/>
                </a:solidFill>
                <a:latin typeface="Adventure"/>
              </a:rPr>
              <a:t>9000</a:t>
            </a:r>
            <a:r>
              <a:rPr b="0" lang="ru-RU" sz="2000" spc="-1" strike="noStrike">
                <a:solidFill>
                  <a:srgbClr val="000000"/>
                </a:solidFill>
                <a:latin typeface="Adventure"/>
              </a:rPr>
              <a:t> человек убитыми,</a:t>
            </a:r>
            <a:endParaRPr b="0" lang="en-US" sz="2000" spc="-1" strike="noStrike">
              <a:solidFill>
                <a:srgbClr val="ffffff"/>
              </a:solidFill>
              <a:latin typeface="Adventur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dventure"/>
              </a:rPr>
              <a:t>                  </a:t>
            </a:r>
            <a:r>
              <a:rPr b="1" i="1" lang="ru-RU" sz="2000" spc="-1" strike="noStrike">
                <a:solidFill>
                  <a:srgbClr val="ff9900"/>
                </a:solidFill>
                <a:latin typeface="Adventure"/>
              </a:rPr>
              <a:t>3000 </a:t>
            </a:r>
            <a:r>
              <a:rPr b="0" lang="ru-RU" sz="2000" spc="-1" strike="noStrike">
                <a:solidFill>
                  <a:srgbClr val="000000"/>
                </a:solidFill>
                <a:latin typeface="Adventure"/>
              </a:rPr>
              <a:t>человек пленными.</a:t>
            </a:r>
            <a:endParaRPr b="0" lang="en-US" sz="2000" spc="-1" strike="noStrike">
              <a:solidFill>
                <a:srgbClr val="ffffff"/>
              </a:solidFill>
              <a:latin typeface="Adventur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45" name="WordArt 5"/>
          <p:cNvSpPr txBox="1"/>
          <p:nvPr/>
        </p:nvSpPr>
        <p:spPr>
          <a:xfrm rot="21230400">
            <a:off x="1244520" y="569880"/>
            <a:ext cx="37148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Потер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poltavapanoramaorigadjusted"/>
          <p:cNvPicPr/>
          <p:nvPr/>
        </p:nvPicPr>
        <p:blipFill>
          <a:blip r:embed="rId1"/>
          <a:stretch/>
        </p:blipFill>
        <p:spPr>
          <a:xfrm rot="282600">
            <a:off x="3419280" y="1700280"/>
            <a:ext cx="5510160" cy="386388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sp>
        <p:nvSpPr>
          <p:cNvPr id="147" name="WordArt 4"/>
          <p:cNvSpPr txBox="1"/>
          <p:nvPr/>
        </p:nvSpPr>
        <p:spPr>
          <a:xfrm>
            <a:off x="1116000" y="260280"/>
            <a:ext cx="69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Значение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Полтавской битвы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  <p:sp>
        <p:nvSpPr>
          <p:cNvPr id="148" name="AutoShape 7"/>
          <p:cNvSpPr/>
          <p:nvPr/>
        </p:nvSpPr>
        <p:spPr>
          <a:xfrm rot="21133800">
            <a:off x="-162000" y="2409480"/>
            <a:ext cx="4364280" cy="4230720"/>
          </a:xfrm>
          <a:prstGeom prst="verticalScroll">
            <a:avLst>
              <a:gd name="adj" fmla="val 1420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Adventure"/>
              </a:rPr>
              <a:t>1.</a:t>
            </a:r>
            <a:r>
              <a:rPr b="0" i="1" lang="ru-RU" sz="1400" spc="-1" strike="noStrike">
                <a:solidFill>
                  <a:srgbClr val="000000"/>
                </a:solidFill>
                <a:latin typeface="Adventure"/>
              </a:rPr>
              <a:t> Победа изменила ход Северной</a:t>
            </a: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dventure"/>
              </a:rPr>
              <a:t>войны в пользу России.</a:t>
            </a: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Adventure"/>
              </a:rPr>
              <a:t>2.</a:t>
            </a:r>
            <a:r>
              <a:rPr b="0" i="1" lang="ru-RU" sz="1400" spc="-1" strike="noStrike">
                <a:solidFill>
                  <a:srgbClr val="000000"/>
                </a:solidFill>
                <a:latin typeface="Adventure"/>
              </a:rPr>
              <a:t> Враг был изгнан из пределов</a:t>
            </a: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dventure"/>
              </a:rPr>
              <a:t>России, война продолжалась уже</a:t>
            </a: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dventure"/>
              </a:rPr>
              <a:t>на чужих территориях.</a:t>
            </a: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Adventure"/>
              </a:rPr>
              <a:t>3.</a:t>
            </a:r>
            <a:r>
              <a:rPr b="0" i="1" lang="ru-RU" sz="1400" spc="-1" strike="noStrike">
                <a:solidFill>
                  <a:srgbClr val="000000"/>
                </a:solidFill>
                <a:latin typeface="Adventure"/>
              </a:rPr>
              <a:t> Международный престиж</a:t>
            </a: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dventure"/>
              </a:rPr>
              <a:t>России резко возрос. Заявили о</a:t>
            </a: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dventure"/>
              </a:rPr>
              <a:t>приверженности союзу с Россией</a:t>
            </a: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dventure"/>
              </a:rPr>
              <a:t>Саксония, Дания, Речь Посполитая.</a:t>
            </a: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dventure"/>
            </a:endParaRPr>
          </a:p>
        </p:txBody>
      </p:sp>
    </p:spTree>
  </p:cSld>
  <p:transition spd="slow"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йти произведения литературы, живописи, скульптуры о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лтавской би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комментировать произведения выдержками из литературных или исторических источ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365142"/>
          <p:cNvPicPr/>
          <p:nvPr/>
        </p:nvPicPr>
        <p:blipFill>
          <a:blip r:embed="rId1"/>
          <a:srcRect l="16643" t="0" r="9552" b="0"/>
          <a:stretch/>
        </p:blipFill>
        <p:spPr>
          <a:xfrm rot="21258600">
            <a:off x="216000" y="3789000"/>
            <a:ext cx="2232000" cy="230508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pic>
        <p:nvPicPr>
          <p:cNvPr id="152" name="Picture 16" descr="bb2d5c82e9dc"/>
          <p:cNvPicPr/>
          <p:nvPr/>
        </p:nvPicPr>
        <p:blipFill>
          <a:blip r:embed="rId2"/>
          <a:stretch/>
        </p:blipFill>
        <p:spPr>
          <a:xfrm rot="21210600">
            <a:off x="1042560" y="1557360"/>
            <a:ext cx="2592360" cy="224640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pic>
        <p:nvPicPr>
          <p:cNvPr id="153" name="Picture 30" descr="9988"/>
          <p:cNvPicPr/>
          <p:nvPr/>
        </p:nvPicPr>
        <p:blipFill>
          <a:blip r:embed="rId3"/>
          <a:stretch/>
        </p:blipFill>
        <p:spPr>
          <a:xfrm rot="659400">
            <a:off x="6372360" y="1773000"/>
            <a:ext cx="2381040" cy="278100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pic>
        <p:nvPicPr>
          <p:cNvPr id="154" name="Picture 22" descr="imgB"/>
          <p:cNvPicPr/>
          <p:nvPr/>
        </p:nvPicPr>
        <p:blipFill>
          <a:blip r:embed="rId4"/>
          <a:stretch/>
        </p:blipFill>
        <p:spPr>
          <a:xfrm rot="21478800">
            <a:off x="2411280" y="3931920"/>
            <a:ext cx="3924360" cy="225576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pic>
        <p:nvPicPr>
          <p:cNvPr id="155" name="Picture 24" descr="mus_09"/>
          <p:cNvPicPr/>
          <p:nvPr/>
        </p:nvPicPr>
        <p:blipFill>
          <a:blip r:embed="rId5"/>
          <a:stretch/>
        </p:blipFill>
        <p:spPr>
          <a:xfrm rot="424800">
            <a:off x="5722920" y="4581000"/>
            <a:ext cx="3240000" cy="207180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sp>
        <p:nvSpPr>
          <p:cNvPr id="156" name="WordArt 25"/>
          <p:cNvSpPr txBox="1"/>
          <p:nvPr/>
        </p:nvSpPr>
        <p:spPr>
          <a:xfrm>
            <a:off x="1116000" y="260280"/>
            <a:ext cx="69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Памятники, посвященные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Полтавской победе.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  <p:pic>
        <p:nvPicPr>
          <p:cNvPr id="157" name="Picture 28" descr="pol3"/>
          <p:cNvPicPr/>
          <p:nvPr/>
        </p:nvPicPr>
        <p:blipFill>
          <a:blip r:embed="rId6"/>
          <a:stretch/>
        </p:blipFill>
        <p:spPr>
          <a:xfrm>
            <a:off x="3780000" y="1557360"/>
            <a:ext cx="2952720" cy="240984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4" descr="21f1_p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5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Государственный историко-культурный музей-заповедник «Поле Полтавской битвы»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0" descr=""/>
          <p:cNvPicPr/>
          <p:nvPr/>
        </p:nvPicPr>
        <p:blipFill>
          <a:blip r:embed="rId1"/>
          <a:stretch/>
        </p:blipFill>
        <p:spPr>
          <a:xfrm>
            <a:off x="6732720" y="5373720"/>
            <a:ext cx="1366560" cy="11541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1"/>
          <p:cNvSpPr/>
          <p:nvPr/>
        </p:nvSpPr>
        <p:spPr>
          <a:xfrm rot="21196800">
            <a:off x="-180720" y="1628280"/>
            <a:ext cx="3737160" cy="3456000"/>
          </a:xfrm>
          <a:prstGeom prst="verticalScroll">
            <a:avLst>
              <a:gd name="adj" fmla="val 1345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dventure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 Познакомиться с ходом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Полтавской битвы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на основе анализа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исторических документов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и поэмы А.С. Пушкина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«Полтава»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58" name="AutoShape 12"/>
          <p:cNvSpPr/>
          <p:nvPr/>
        </p:nvSpPr>
        <p:spPr>
          <a:xfrm rot="301800">
            <a:off x="2665440" y="2636640"/>
            <a:ext cx="3736800" cy="3456000"/>
          </a:xfrm>
          <a:prstGeom prst="verticalScroll">
            <a:avLst>
              <a:gd name="adj" fmla="val 1339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dventure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. Сравнить описание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Полтавской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битвы в исторических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документах и в поэме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А.С. Пушкина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«Полтава»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59" name="AutoShape 13"/>
          <p:cNvSpPr/>
          <p:nvPr/>
        </p:nvSpPr>
        <p:spPr>
          <a:xfrm rot="21451200">
            <a:off x="5400360" y="1773000"/>
            <a:ext cx="3736800" cy="3456000"/>
          </a:xfrm>
          <a:prstGeom prst="verticalScroll">
            <a:avLst>
              <a:gd name="adj" fmla="val 15296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dventure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 Вызвать чувство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гордости героизмом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русских воинов и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талантом Петра 1.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Вызвать потребность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обращаться к разным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источникам 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dventure"/>
              </a:rPr>
              <a:t>информации</a:t>
            </a: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2340000" y="333360"/>
            <a:ext cx="44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Цели урока: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Благодарим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равнительная табли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413000"/>
          <a:ext cx="8713800" cy="5111640"/>
        </p:xfrm>
        <a:graphic>
          <a:graphicData uri="http://schemas.openxmlformats.org/drawingml/2006/table">
            <a:tbl>
              <a:tblPr/>
              <a:tblGrid>
                <a:gridCol w="2897280"/>
                <a:gridCol w="2908440"/>
                <a:gridCol w="290808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зиция для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ческое освещ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тературное освещ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ковод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ы стор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тоги битв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dventur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6"/>
          <p:cNvSpPr/>
          <p:nvPr/>
        </p:nvSpPr>
        <p:spPr>
          <a:xfrm rot="21269400">
            <a:off x="262080" y="1287360"/>
            <a:ext cx="4752720" cy="5256360"/>
          </a:xfrm>
          <a:prstGeom prst="verticalScroll">
            <a:avLst>
              <a:gd name="adj" fmla="val 1236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pic>
        <p:nvPicPr>
          <p:cNvPr id="64" name="Picture 13" descr="1"/>
          <p:cNvPicPr/>
          <p:nvPr/>
        </p:nvPicPr>
        <p:blipFill>
          <a:blip r:embed="rId2"/>
          <a:stretch/>
        </p:blipFill>
        <p:spPr>
          <a:xfrm rot="21219000">
            <a:off x="1116000" y="2060280"/>
            <a:ext cx="3127320" cy="409392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sp>
        <p:nvSpPr>
          <p:cNvPr id="65" name="AutoShape 27"/>
          <p:cNvSpPr/>
          <p:nvPr/>
        </p:nvSpPr>
        <p:spPr>
          <a:xfrm rot="412200">
            <a:off x="4211640" y="1341360"/>
            <a:ext cx="4680000" cy="5256360"/>
          </a:xfrm>
          <a:prstGeom prst="verticalScroll">
            <a:avLst>
              <a:gd name="adj" fmla="val 12365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pic>
        <p:nvPicPr>
          <p:cNvPr id="66" name="Picture 16" descr="8ceeec8fb41e"/>
          <p:cNvPicPr/>
          <p:nvPr/>
        </p:nvPicPr>
        <p:blipFill>
          <a:blip r:embed="rId4">
            <a:lum bright="-18000"/>
          </a:blip>
          <a:stretch/>
        </p:blipFill>
        <p:spPr>
          <a:xfrm rot="438600">
            <a:off x="4932360" y="2133720"/>
            <a:ext cx="3186000" cy="396072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sp>
        <p:nvSpPr>
          <p:cNvPr id="67" name="WordArt 17"/>
          <p:cNvSpPr txBox="1"/>
          <p:nvPr/>
        </p:nvSpPr>
        <p:spPr>
          <a:xfrm>
            <a:off x="2340000" y="333360"/>
            <a:ext cx="44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Противники: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  <p:sp>
        <p:nvSpPr>
          <p:cNvPr id="68" name="WordArt 19"/>
          <p:cNvSpPr txBox="1"/>
          <p:nvPr/>
        </p:nvSpPr>
        <p:spPr>
          <a:xfrm rot="21128400">
            <a:off x="1763280" y="5444640"/>
            <a:ext cx="2158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Петр I</a:t>
            </a:r>
            <a:endParaRPr b="0" i="1" lang="en-US" sz="3200" spc="1" strike="noStrike">
              <a:ln w="15840">
                <a:solidFill>
                  <a:srgbClr val="9933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69" name="WordArt 20"/>
          <p:cNvSpPr txBox="1"/>
          <p:nvPr/>
        </p:nvSpPr>
        <p:spPr>
          <a:xfrm rot="506400">
            <a:off x="5219280" y="537372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Карл XII</a:t>
            </a:r>
            <a:endParaRPr b="0" i="1" lang="en-US" sz="3200" spc="1" strike="noStrike">
              <a:ln w="15840">
                <a:solidFill>
                  <a:srgbClr val="9933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WordArt 29"/>
          <p:cNvSpPr txBox="1"/>
          <p:nvPr/>
        </p:nvSpPr>
        <p:spPr>
          <a:xfrm rot="21229200">
            <a:off x="1692360" y="1341000"/>
            <a:ext cx="21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оссия</a:t>
            </a:r>
            <a:endParaRPr b="0" i="1" lang="en-US" sz="32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1" name="WordArt 30"/>
          <p:cNvSpPr txBox="1"/>
          <p:nvPr/>
        </p:nvSpPr>
        <p:spPr>
          <a:xfrm rot="376800">
            <a:off x="6145200" y="1482480"/>
            <a:ext cx="21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Швеция</a:t>
            </a:r>
            <a:endParaRPr b="0" i="1" lang="en-US" sz="32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2"/>
          <p:cNvSpPr/>
          <p:nvPr/>
        </p:nvSpPr>
        <p:spPr>
          <a:xfrm rot="21269400">
            <a:off x="201240" y="1122120"/>
            <a:ext cx="5883120" cy="5389560"/>
          </a:xfrm>
          <a:prstGeom prst="verticalScroll">
            <a:avLst>
              <a:gd name="adj" fmla="val 1420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Регулярная армия  ̶  </a:t>
            </a:r>
            <a:r>
              <a:rPr b="1" i="1" lang="ru-RU" sz="2400" spc="-1" strike="noStrike">
                <a:solidFill>
                  <a:srgbClr val="ff9900"/>
                </a:solidFill>
                <a:latin typeface="Adventure"/>
              </a:rPr>
              <a:t>42208</a:t>
            </a: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человек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пехота, конница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1" i="1" lang="ru-RU" sz="2400" spc="-1" strike="noStrike">
                <a:solidFill>
                  <a:srgbClr val="ff9900"/>
                </a:solidFill>
                <a:latin typeface="Adventure"/>
              </a:rPr>
              <a:t>102</a:t>
            </a: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 орудия</a:t>
            </a: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Украинские казаки  ̶  </a:t>
            </a:r>
            <a:r>
              <a:rPr b="1" i="1" lang="ru-RU" sz="2400" spc="-1" strike="noStrike">
                <a:solidFill>
                  <a:srgbClr val="ff9900"/>
                </a:solidFill>
                <a:latin typeface="Adventure"/>
              </a:rPr>
              <a:t>40000</a:t>
            </a: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</p:txBody>
      </p:sp>
      <p:pic>
        <p:nvPicPr>
          <p:cNvPr id="73" name="Picture 16" descr="B6-DSCN0983"/>
          <p:cNvPicPr/>
          <p:nvPr/>
        </p:nvPicPr>
        <p:blipFill>
          <a:blip r:embed="rId3">
            <a:lum bright="-2000"/>
          </a:blip>
          <a:stretch/>
        </p:blipFill>
        <p:spPr>
          <a:xfrm rot="21438000">
            <a:off x="5508360" y="1700280"/>
            <a:ext cx="3274920" cy="222552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sp>
        <p:nvSpPr>
          <p:cNvPr id="74" name="WordArt 18"/>
          <p:cNvSpPr txBox="1"/>
          <p:nvPr/>
        </p:nvSpPr>
        <p:spPr>
          <a:xfrm>
            <a:off x="2340000" y="333360"/>
            <a:ext cx="44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Силы русских: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  <p:pic>
        <p:nvPicPr>
          <p:cNvPr id="75" name="Picture 21" descr=""/>
          <p:cNvPicPr/>
          <p:nvPr/>
        </p:nvPicPr>
        <p:blipFill>
          <a:blip r:embed="rId4"/>
          <a:stretch/>
        </p:blipFill>
        <p:spPr>
          <a:xfrm>
            <a:off x="7524720" y="0"/>
            <a:ext cx="109368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Картинка 10 из 16">
            <a:hlinkClick r:id="rId5"/>
          </p:cNvPr>
          <p:cNvPicPr/>
          <p:nvPr/>
        </p:nvPicPr>
        <p:blipFill>
          <a:blip r:embed="rId6">
            <a:lum bright="-2000"/>
          </a:blip>
          <a:stretch/>
        </p:blipFill>
        <p:spPr>
          <a:xfrm rot="453000">
            <a:off x="6443280" y="3860280"/>
            <a:ext cx="2046240" cy="278136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</p:spTree>
  </p:cSld>
  <p:transition spd="slow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shvedy"/>
          <p:cNvPicPr/>
          <p:nvPr/>
        </p:nvPicPr>
        <p:blipFill>
          <a:blip r:embed="rId1"/>
          <a:stretch/>
        </p:blipFill>
        <p:spPr>
          <a:xfrm rot="21208200">
            <a:off x="250920" y="1988640"/>
            <a:ext cx="3889440" cy="331308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pic>
        <p:nvPicPr>
          <p:cNvPr id="78" name="Picture 10" descr=""/>
          <p:cNvPicPr/>
          <p:nvPr/>
        </p:nvPicPr>
        <p:blipFill>
          <a:blip r:embed="rId2"/>
          <a:stretch/>
        </p:blipFill>
        <p:spPr>
          <a:xfrm>
            <a:off x="7596360" y="0"/>
            <a:ext cx="971280" cy="10288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1"/>
          <p:cNvSpPr/>
          <p:nvPr/>
        </p:nvSpPr>
        <p:spPr>
          <a:xfrm rot="330000">
            <a:off x="2916000" y="1125000"/>
            <a:ext cx="5883120" cy="5389920"/>
          </a:xfrm>
          <a:prstGeom prst="verticalScroll">
            <a:avLst>
              <a:gd name="adj" fmla="val 1420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Регулярная армия – </a:t>
            </a:r>
            <a:r>
              <a:rPr b="1" i="1" lang="ru-RU" sz="2400" spc="-1" strike="noStrike">
                <a:solidFill>
                  <a:srgbClr val="ff9900"/>
                </a:solidFill>
                <a:latin typeface="Adventure"/>
              </a:rPr>
              <a:t>30000</a:t>
            </a: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человек.</a:t>
            </a: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1" i="1" lang="ru-RU" sz="2400" spc="-1" strike="noStrike">
                <a:solidFill>
                  <a:srgbClr val="ff9900"/>
                </a:solidFill>
                <a:latin typeface="Adventure"/>
              </a:rPr>
              <a:t>39</a:t>
            </a: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 орудий</a:t>
            </a: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Украинских казаков – </a:t>
            </a:r>
            <a:r>
              <a:rPr b="1" i="1" lang="ru-RU" sz="2400" spc="-1" strike="noStrike">
                <a:solidFill>
                  <a:srgbClr val="ff9900"/>
                </a:solidFill>
                <a:latin typeface="Adventure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dventure"/>
              </a:rPr>
              <a:t>человек.</a:t>
            </a: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2340000" y="333360"/>
            <a:ext cx="44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Силы шведов: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619280" y="189000"/>
            <a:ext cx="5832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Атака русской арми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1692360" y="6093000"/>
            <a:ext cx="5832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Во главе русских</a:t>
            </a:r>
            <a:endParaRPr b="0" i="1" lang="en-US" sz="3200" spc="1" strike="noStrike">
              <a:ln w="15840">
                <a:solidFill>
                  <a:srgbClr val="9933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83" name="AutoShape 21"/>
          <p:cNvSpPr/>
          <p:nvPr/>
        </p:nvSpPr>
        <p:spPr>
          <a:xfrm rot="21196800">
            <a:off x="-299520" y="1625400"/>
            <a:ext cx="3727440" cy="4108320"/>
          </a:xfrm>
          <a:prstGeom prst="verticalScroll">
            <a:avLst>
              <a:gd name="adj" fmla="val 13458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pic>
        <p:nvPicPr>
          <p:cNvPr id="84" name="Picture 16" descr="jivopis_st590_petr"/>
          <p:cNvPicPr/>
          <p:nvPr/>
        </p:nvPicPr>
        <p:blipFill>
          <a:blip r:embed="rId2"/>
          <a:stretch/>
        </p:blipFill>
        <p:spPr>
          <a:xfrm rot="21178800">
            <a:off x="563040" y="2276280"/>
            <a:ext cx="2078280" cy="309564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sp>
        <p:nvSpPr>
          <p:cNvPr id="85" name="WordArt 18"/>
          <p:cNvSpPr txBox="1"/>
          <p:nvPr/>
        </p:nvSpPr>
        <p:spPr>
          <a:xfrm rot="21200400">
            <a:off x="582120" y="1698120"/>
            <a:ext cx="2159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етр I</a:t>
            </a:r>
            <a:endParaRPr b="0" i="1" lang="en-US" sz="32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6" name="AutoShape 23"/>
          <p:cNvSpPr/>
          <p:nvPr/>
        </p:nvSpPr>
        <p:spPr>
          <a:xfrm rot="21451200">
            <a:off x="5076720" y="1765440"/>
            <a:ext cx="4067280" cy="4103640"/>
          </a:xfrm>
          <a:prstGeom prst="verticalScroll">
            <a:avLst>
              <a:gd name="adj" fmla="val 15296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pic>
        <p:nvPicPr>
          <p:cNvPr id="87" name="Picture 12" descr="image018"/>
          <p:cNvPicPr/>
          <p:nvPr/>
        </p:nvPicPr>
        <p:blipFill>
          <a:blip r:embed="rId4"/>
          <a:stretch/>
        </p:blipFill>
        <p:spPr>
          <a:xfrm rot="21431400">
            <a:off x="5940360" y="2491920"/>
            <a:ext cx="2365560" cy="305460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sp>
        <p:nvSpPr>
          <p:cNvPr id="88" name="AutoShape 22"/>
          <p:cNvSpPr/>
          <p:nvPr/>
        </p:nvSpPr>
        <p:spPr>
          <a:xfrm rot="301800">
            <a:off x="2350800" y="2064960"/>
            <a:ext cx="3895560" cy="4033800"/>
          </a:xfrm>
          <a:prstGeom prst="verticalScroll">
            <a:avLst>
              <a:gd name="adj" fmla="val 13393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pic>
        <p:nvPicPr>
          <p:cNvPr id="89" name="Picture 10" descr="15"/>
          <p:cNvPicPr/>
          <p:nvPr/>
        </p:nvPicPr>
        <p:blipFill>
          <a:blip r:embed="rId6"/>
          <a:stretch/>
        </p:blipFill>
        <p:spPr>
          <a:xfrm rot="340800">
            <a:off x="3059280" y="2708280"/>
            <a:ext cx="2460600" cy="295272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  <p:sp>
        <p:nvSpPr>
          <p:cNvPr id="90" name="WordArt 19"/>
          <p:cNvSpPr txBox="1"/>
          <p:nvPr/>
        </p:nvSpPr>
        <p:spPr>
          <a:xfrm rot="286800">
            <a:off x="3587400" y="2204640"/>
            <a:ext cx="2663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Шереметев</a:t>
            </a:r>
            <a:endParaRPr b="0" i="1" lang="en-US" sz="32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20"/>
          <p:cNvSpPr txBox="1"/>
          <p:nvPr/>
        </p:nvSpPr>
        <p:spPr>
          <a:xfrm rot="21465000">
            <a:off x="6372360" y="1844640"/>
            <a:ext cx="24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еншиков</a:t>
            </a:r>
            <a:endParaRPr b="0" i="1" lang="en-US" sz="32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мандиры шведской арм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143000" y="1341360"/>
            <a:ext cx="5929200" cy="5256360"/>
          </a:xfrm>
          <a:prstGeom prst="verticalScroll">
            <a:avLst>
              <a:gd name="adj" fmla="val 1355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2857680" y="1395360"/>
            <a:ext cx="278604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Карл XII</a:t>
            </a:r>
            <a:endParaRPr b="0" i="1" lang="en-US" sz="3200" spc="1" strike="noStrike">
              <a:ln w="15840">
                <a:solidFill>
                  <a:srgbClr val="9933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WordArt 9"/>
          <p:cNvSpPr txBox="1"/>
          <p:nvPr/>
        </p:nvSpPr>
        <p:spPr>
          <a:xfrm rot="21229200">
            <a:off x="1692360" y="1341000"/>
            <a:ext cx="21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5840">
                  <a:solidFill>
                    <a:srgbClr val="9933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1" strike="noStrike">
              <a:ln w="15840">
                <a:solidFill>
                  <a:srgbClr val="9933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Picture 5" descr="8ceeec8fb41e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2357280" y="2286000"/>
            <a:ext cx="3500640" cy="4000680"/>
          </a:xfrm>
          <a:prstGeom prst="rect">
            <a:avLst/>
          </a:prstGeom>
          <a:ln w="69840">
            <a:solidFill>
              <a:srgbClr val="3e0000"/>
            </a:solidFill>
            <a:miter/>
          </a:ln>
        </p:spPr>
      </p:pic>
    </p:spTree>
  </p:cSld>
  <p:transition spd="slow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14"/>
          <p:cNvSpPr txBox="1"/>
          <p:nvPr/>
        </p:nvSpPr>
        <p:spPr>
          <a:xfrm>
            <a:off x="2916360" y="333360"/>
            <a:ext cx="36716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5c0000"/>
                  </a:outerShdw>
                </a:effectLst>
                <a:latin typeface="Majestic"/>
              </a:rPr>
              <a:t>Позици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5c0000"/>
                </a:outerShdw>
              </a:effectLst>
              <a:latin typeface="Majestic"/>
              <a:ea typeface="Majestic"/>
            </a:endParaRPr>
          </a:p>
        </p:txBody>
      </p:sp>
      <p:sp>
        <p:nvSpPr>
          <p:cNvPr id="98" name="Tree"/>
          <p:cNvSpPr/>
          <p:nvPr/>
        </p:nvSpPr>
        <p:spPr>
          <a:xfrm>
            <a:off x="1619280" y="2492280"/>
            <a:ext cx="129528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99" name="Tree"/>
          <p:cNvSpPr/>
          <p:nvPr/>
        </p:nvSpPr>
        <p:spPr>
          <a:xfrm>
            <a:off x="684360" y="3357720"/>
            <a:ext cx="1295280" cy="5029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00" name="Tree"/>
          <p:cNvSpPr/>
          <p:nvPr/>
        </p:nvSpPr>
        <p:spPr>
          <a:xfrm>
            <a:off x="1619280" y="3500280"/>
            <a:ext cx="129528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2714760" y="2708280"/>
            <a:ext cx="380196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atangChe"/>
              </a:rPr>
              <a:t>Армия Петра</a:t>
            </a:r>
            <a:r>
              <a:rPr b="0" lang="en-US" sz="2800" spc="-1" strike="noStrike">
                <a:solidFill>
                  <a:srgbClr val="ffffff"/>
                </a:solidFill>
                <a:latin typeface="BatangChe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02" name="AutoShape 23"/>
          <p:cNvSpPr/>
          <p:nvPr/>
        </p:nvSpPr>
        <p:spPr>
          <a:xfrm>
            <a:off x="2914560" y="4005360"/>
            <a:ext cx="719280" cy="107136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atangChe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3635280" y="4005360"/>
            <a:ext cx="719280" cy="107136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BatangChe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4356000" y="4005360"/>
            <a:ext cx="719280" cy="107136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BatangChe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05" name="AutoShape 26"/>
          <p:cNvSpPr/>
          <p:nvPr/>
        </p:nvSpPr>
        <p:spPr>
          <a:xfrm>
            <a:off x="5148360" y="4005360"/>
            <a:ext cx="718920" cy="107136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BatangChe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5938920" y="4005360"/>
            <a:ext cx="718920" cy="107136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BatangChe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07" name="AutoShape 28"/>
          <p:cNvSpPr/>
          <p:nvPr/>
        </p:nvSpPr>
        <p:spPr>
          <a:xfrm>
            <a:off x="6659640" y="4005360"/>
            <a:ext cx="718920" cy="1071360"/>
          </a:xfrm>
          <a:prstGeom prst="diamond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BatangChe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2714760" y="5500800"/>
            <a:ext cx="5643360" cy="1057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atangChe"/>
              </a:rPr>
              <a:t>Армия Карла </a:t>
            </a:r>
            <a:r>
              <a:rPr b="0" lang="en-US" sz="3600" spc="-1" strike="noStrike">
                <a:solidFill>
                  <a:srgbClr val="ffffff"/>
                </a:solidFill>
                <a:latin typeface="BatangChe"/>
              </a:rPr>
              <a:t>XII</a:t>
            </a:r>
            <a:endParaRPr b="0" lang="en-US" sz="3600" spc="-1" strike="noStrike">
              <a:solidFill>
                <a:srgbClr val="ffffff"/>
              </a:solidFill>
              <a:latin typeface="Adventure"/>
            </a:endParaRPr>
          </a:p>
        </p:txBody>
      </p:sp>
      <p:pic>
        <p:nvPicPr>
          <p:cNvPr id="109" name="Picture 40" descr=""/>
          <p:cNvPicPr/>
          <p:nvPr/>
        </p:nvPicPr>
        <p:blipFill>
          <a:blip r:embed="rId1"/>
          <a:stretch/>
        </p:blipFill>
        <p:spPr>
          <a:xfrm>
            <a:off x="6786720" y="2286000"/>
            <a:ext cx="1093680" cy="1511280"/>
          </a:xfrm>
          <a:prstGeom prst="rect">
            <a:avLst/>
          </a:prstGeom>
          <a:ln w="0">
            <a:noFill/>
          </a:ln>
        </p:spPr>
      </p:pic>
      <p:sp>
        <p:nvSpPr>
          <p:cNvPr id="110" name="Tree"/>
          <p:cNvSpPr/>
          <p:nvPr/>
        </p:nvSpPr>
        <p:spPr>
          <a:xfrm>
            <a:off x="1332000" y="2924280"/>
            <a:ext cx="129528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11" name="Tree"/>
          <p:cNvSpPr/>
          <p:nvPr/>
        </p:nvSpPr>
        <p:spPr>
          <a:xfrm>
            <a:off x="539640" y="2781360"/>
            <a:ext cx="129564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12" name="Tree"/>
          <p:cNvSpPr/>
          <p:nvPr/>
        </p:nvSpPr>
        <p:spPr>
          <a:xfrm>
            <a:off x="0" y="3141720"/>
            <a:ext cx="129528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13" name="Tree"/>
          <p:cNvSpPr/>
          <p:nvPr/>
        </p:nvSpPr>
        <p:spPr>
          <a:xfrm>
            <a:off x="900000" y="2276640"/>
            <a:ext cx="1295640" cy="5029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14" name="Tree"/>
          <p:cNvSpPr/>
          <p:nvPr/>
        </p:nvSpPr>
        <p:spPr>
          <a:xfrm>
            <a:off x="2050920" y="2060640"/>
            <a:ext cx="129564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15" name="Tree"/>
          <p:cNvSpPr/>
          <p:nvPr/>
        </p:nvSpPr>
        <p:spPr>
          <a:xfrm>
            <a:off x="1403280" y="4149720"/>
            <a:ext cx="129564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16" name="Tree"/>
          <p:cNvSpPr/>
          <p:nvPr/>
        </p:nvSpPr>
        <p:spPr>
          <a:xfrm>
            <a:off x="611280" y="4365720"/>
            <a:ext cx="129528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17" name="Tree"/>
          <p:cNvSpPr/>
          <p:nvPr/>
        </p:nvSpPr>
        <p:spPr>
          <a:xfrm>
            <a:off x="1332000" y="4724280"/>
            <a:ext cx="129528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18" name="Tree"/>
          <p:cNvSpPr/>
          <p:nvPr/>
        </p:nvSpPr>
        <p:spPr>
          <a:xfrm>
            <a:off x="0" y="4724280"/>
            <a:ext cx="129528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19" name="Tree"/>
          <p:cNvSpPr/>
          <p:nvPr/>
        </p:nvSpPr>
        <p:spPr>
          <a:xfrm>
            <a:off x="611280" y="5300640"/>
            <a:ext cx="129528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20" name="Tree"/>
          <p:cNvSpPr/>
          <p:nvPr/>
        </p:nvSpPr>
        <p:spPr>
          <a:xfrm>
            <a:off x="1908000" y="5084640"/>
            <a:ext cx="129564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21" name="Tree"/>
          <p:cNvSpPr/>
          <p:nvPr/>
        </p:nvSpPr>
        <p:spPr>
          <a:xfrm>
            <a:off x="-396720" y="4149720"/>
            <a:ext cx="1295280" cy="50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22" name="WordArt 55"/>
          <p:cNvSpPr txBox="1"/>
          <p:nvPr/>
        </p:nvSpPr>
        <p:spPr>
          <a:xfrm>
            <a:off x="2050920" y="1628640"/>
            <a:ext cx="561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3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47ff"/>
                    </a:gs>
                  </a:gsLst>
                  <a:lin ang="2700000"/>
                </a:gradFill>
                <a:latin typeface="Microsoft Sans Serif"/>
              </a:rPr>
              <a:t>_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47ff"/>
                  </a:gs>
                </a:gsLst>
                <a:lin ang="2700000"/>
              </a:gradFill>
              <a:latin typeface="Microsoft Sans Serif"/>
              <a:ea typeface="Microsoft Sans Serif"/>
            </a:endParaRPr>
          </a:p>
        </p:txBody>
      </p:sp>
      <p:sp>
        <p:nvSpPr>
          <p:cNvPr id="123" name="AutoShape 56"/>
          <p:cNvSpPr/>
          <p:nvPr/>
        </p:nvSpPr>
        <p:spPr>
          <a:xfrm rot="1568400">
            <a:off x="8028000" y="1557360"/>
            <a:ext cx="360360" cy="914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9840">
            <a:solidFill>
              <a:srgbClr val="b8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24" name="AutoShape 57"/>
          <p:cNvSpPr/>
          <p:nvPr/>
        </p:nvSpPr>
        <p:spPr>
          <a:xfrm>
            <a:off x="7812000" y="2492280"/>
            <a:ext cx="360360" cy="914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9840">
            <a:solidFill>
              <a:srgbClr val="b8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25" name="AutoShape 58"/>
          <p:cNvSpPr/>
          <p:nvPr/>
        </p:nvSpPr>
        <p:spPr>
          <a:xfrm>
            <a:off x="7812000" y="3429000"/>
            <a:ext cx="360360" cy="914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9840">
            <a:solidFill>
              <a:srgbClr val="b8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26" name="AutoShape 59"/>
          <p:cNvSpPr/>
          <p:nvPr/>
        </p:nvSpPr>
        <p:spPr>
          <a:xfrm>
            <a:off x="7812000" y="4365720"/>
            <a:ext cx="360360" cy="914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9840">
            <a:solidFill>
              <a:srgbClr val="b8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sp>
        <p:nvSpPr>
          <p:cNvPr id="127" name="WordArt 60"/>
          <p:cNvSpPr txBox="1"/>
          <p:nvPr/>
        </p:nvSpPr>
        <p:spPr>
          <a:xfrm rot="5400000">
            <a:off x="7740360" y="3860640"/>
            <a:ext cx="1800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Unicode MS"/>
              </a:rPr>
              <a:t>овра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128" name="AutoShape 61"/>
          <p:cNvSpPr/>
          <p:nvPr/>
        </p:nvSpPr>
        <p:spPr>
          <a:xfrm rot="20407800">
            <a:off x="7956360" y="5300640"/>
            <a:ext cx="360360" cy="914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9840">
            <a:solidFill>
              <a:srgbClr val="b8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dventure"/>
            </a:endParaRPr>
          </a:p>
        </p:txBody>
      </p:sp>
      <p:pic>
        <p:nvPicPr>
          <p:cNvPr id="129" name="Picture 62" descr=""/>
          <p:cNvPicPr/>
          <p:nvPr/>
        </p:nvPicPr>
        <p:blipFill>
          <a:blip r:embed="rId2"/>
          <a:stretch/>
        </p:blipFill>
        <p:spPr>
          <a:xfrm>
            <a:off x="1500120" y="5572080"/>
            <a:ext cx="971640" cy="102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04:26Z</dcterms:created>
  <dc:creator>Аня</dc:creator>
  <dc:description/>
  <dc:language>en-US</dc:language>
  <cp:lastModifiedBy>Аня</cp:lastModifiedBy>
  <dcterms:modified xsi:type="dcterms:W3CDTF">2010-08-02T10:27:06Z</dcterms:modified>
  <cp:revision>180</cp:revision>
  <dc:subject/>
  <dc:title>Слайд 1</dc:title>
</cp:coreProperties>
</file>